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himes.wav" ContentType="audio/x-wav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D23-284E-427E-B7EF-912660678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0083-9AEB-424F-B900-6DDD5305B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0E15-C139-4887-8B89-592E44086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CF7-8CF7-47AC-B705-D4B37F14C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9766-838F-43DD-816B-87C51C06C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C0D5-A60E-43B4-BD44-5EA04CE63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090E-3C3E-491D-B0EA-E65D34595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9E3-8683-4AA8-8005-A9AA4F125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A1AC-55F3-4B60-B833-3A5B92B5D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53B-EC72-437A-96B8-3385AEC9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8BE-DA81-473B-B6C5-44A26B78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276-7F74-43C1-BE11-4AF0BE6C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6BB-B2FE-465F-BBD2-46940E2F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35F-B3A8-4B64-84E4-8B6CDCB5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A3E6-E618-409F-B045-A24333A9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EA3C-DFCF-4694-B7A9-709FC24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1A9F-6B4F-4CF3-9FD5-37F1F2F6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4B7-64AC-4EA4-956B-F314D41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E5A-58B4-4E2F-9574-4F4F86DB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D5F9-46C2-4717-901C-B568C255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970-12E4-4440-9A4E-E26A640D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DEBC-3B8B-469E-9C95-6E4031B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D085-FAB9-4B92-9917-762FA85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6ADF-13D9-403F-966D-F20635AB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CC0D-B2C3-4727-99C0-4B2D381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B20E-9B14-4E0B-B165-AA964BE0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8EAD-22F2-4ADD-9E79-F95898CE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B485-5DBA-4E6A-BB34-3B077689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8D71-2AE2-4126-B487-D2728062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26FC-AC78-40A9-90D0-698E7C2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9763-D2CE-43D0-8DBE-8C39475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C1D-3F6C-41C3-91CB-64480218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190F-4B78-4EA5-93B7-D0104416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D88E-F37E-42E8-98A1-A51F24E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55FC-9FE4-45DB-8A9E-6FB3AF8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73DE-30FE-4A2D-B80C-8FA490F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9A19-017A-4AD3-AF4E-EBF5FCD9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018D-8A50-474B-9565-779B337A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0119-54A9-4744-A98D-12B91C31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495D6-01EB-4BEC-B207-84E9E6C0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EA03-F47E-41E1-9127-A8F15BE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7530-426B-4EAE-8606-BDD75F5F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A9-4B63-4E11-8509-2EECA3E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4381-51D3-48A6-BAB3-46B9BEF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A6ED-DC47-4A12-ACEC-57B36C29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3596-EE54-49CF-A43F-BA530CD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BD9F-766F-4CA1-BD29-66B3D94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31BC-9C16-4995-9166-BFCF8C2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57C6-C66E-4493-87F1-A95C46C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7E9D-A5DD-4C5C-8B08-E3DE264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EA9D-C5A7-42F0-AAB9-85D3C25A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B285-CAF7-47D9-9441-9D5BE2F7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878-113F-4CC9-B99E-FF9BE45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133-FB5F-4546-B49A-DD2D149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B4E-68C3-4D7A-AA60-0C234F5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2EF-59DC-4B29-92A5-1DD46F2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5CB-1519-46B3-97FC-1141813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A95-D25A-4F58-A121-B2019DDD6C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D09-50BB-4B85-ABA4-9F2ABA9A01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616-3ABB-4D8A-BE82-1A232439C6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BDB9-6737-4077-ADEC-2A7FAFE212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subject is P.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3048120" y="243828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book is Junie B. Jones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4724280" y="2590920"/>
            <a:ext cx="3048120" cy="2819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place is WHITE LAK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Program Files\Microsoft Office\MEDIA\CAGCAT10\j0285444.wmf"/>
          <p:cNvPicPr/>
          <p:nvPr/>
        </p:nvPicPr>
        <p:blipFill>
          <a:blip r:embed="rId1"/>
          <a:stretch/>
        </p:blipFill>
        <p:spPr>
          <a:xfrm>
            <a:off x="838080" y="2819520"/>
            <a:ext cx="8153640" cy="2712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food is Daddy’s deer me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ould like to meet Taylor Swif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afraid of sharks, bugs, and snak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grow up I want to be a make up art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51Z</dcterms:created>
  <dc:creator> pc#14</dc:creator>
  <dc:description/>
  <dc:language>en-US</dc:language>
  <cp:lastModifiedBy> </cp:lastModifiedBy>
  <dcterms:modified xsi:type="dcterms:W3CDTF">2009-11-12T19:10:08Z</dcterms:modified>
  <cp:revision>7</cp:revision>
  <dc:subject/>
  <dc:title>WHO AM I</dc:title>
</cp:coreProperties>
</file>